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D259-659C-466A-968A-EBF2F01B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472B-F8C7-496C-A62D-7032E5D7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2BB8-D85D-41B5-916C-043E100B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322B-9B8B-4EDC-9710-D3928FDB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938C-38D9-4153-8F43-DFF911C8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4D83-6D90-4ADF-8FDF-5580BBCF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2AAC-1982-4419-AED5-FE1A1339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4243-2CD7-4463-92EC-7C2D2566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2A67-0EA1-416F-AA04-B3671F56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6902-002C-40DC-BF88-973A73E9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1BAD-F239-415F-B9FD-EF37A9AE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5773-E175-4CFA-AEB4-39A6CA6B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549F-7879-4FA4-96F9-E2D4D704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9CA9-8100-4C8D-8D09-39B1335A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3547-BB24-4645-9BB8-768DDFBA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3C82-2A91-46E1-9780-EA78DFEC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28C7-A64F-4264-A56E-6C107CD2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DDB08-B4B6-467D-AB42-D84CAF72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0BE87-1563-44A2-940D-DC325FE5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7E0F2-329C-4039-A449-0980580A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3F5D1-3177-4BBC-ABE7-B19E6173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90D6E-E9A7-45DF-8F11-36CE381C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1C8E-6EB3-48ED-9523-1BC37BC5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7372E-5712-4342-BE6E-F1F23644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CAB94-9926-4CD9-94D7-44F2D313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4D3E7-4FB4-4FC4-8E2E-6C2D9494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C0FFF-A40B-494F-B38B-CEE53986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387BA-56CD-4F31-8859-1B3EBAD1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E730A-E2D6-4B8A-943B-90CB4121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72D62-D997-48D4-A121-352FFB08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7DF4F-360D-4DBD-933F-F2268161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8819B-4CD8-486B-8928-69347777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70DE0-5C1A-4777-A8A1-A9B66319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575D-FB12-4D23-9EAF-64F119B0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1FD5F-1D7A-4664-9EE0-1BE32626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2BA5A-07F5-4727-9371-2ABB90C0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4661B-0743-4646-A278-DF8C7C0C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42216-FF5B-4BE8-9091-11C2FEA2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D5B87-4149-46FC-A97B-37BC5733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98441-C81F-4140-9CB6-73478DF6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67B49-E3CA-4B37-9D06-B059B623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49E2B-2EB7-4801-921C-235E19B1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FC591-4041-4081-8E4A-15330756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EAFF1-C5FB-414F-A234-6BD04482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9011-03E5-4E43-8EFA-1E06AF95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05EED-469D-4310-A4E3-1FB2EA50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40025-8841-4B83-8BEE-1D594AA8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1E214-34BF-4266-A61C-A8093D37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FFCDC-4320-4968-B1A0-DDA6DEEE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F776D-7262-4BEF-BF6A-A0D11B0C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D4123-B6FF-4FF9-A383-6010B0EF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CF21B-2C00-4C6B-957E-F2728D22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7B0C2-EB88-4A4C-BBA8-8B4D610F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F03AE-3C26-4757-A8C9-F51E227D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779CE-3BBE-4188-AF67-0DB8D9C1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F442-E1E2-4E0C-889B-339A12C5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CD763-74DC-42C8-A346-3F6B1C3B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67C4-E58D-4173-8C82-F9C6CACF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19D1-4CCA-4B7C-A128-09574289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A95D-DCDB-4896-BC28-4CC15131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4FBE-AA4C-4DAC-96DD-0BC45469F62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E590-648D-4654-9A83-7E72786C427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1C01-B1A1-4099-B61B-BED215B53F6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BB69-EB1D-4D46-8898-5F3840638E2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1B3B-CB9A-4D8E-B6F7-9DFC78661F4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videouroki.net/look/diski/velruspis/index.html?utm_source=videouroki&amp;utm_medium=banner&amp;utm_campaign=dinrekllefttd&amp;utm_content=catalog&amp;utm_term=25%20&#1074;&#1080;&#1076;&#1077;&#1086;&#1089;&#1102;&#1078;&#1077;&#1090;&#1086;&#1074;%20&#1086;%20&#1074;&#1077;&#1083;&#1080;&#1082;&#1080;&#1093;%20&#1088;&#1091;&#1089;&#1089;&#1082;&#1080;&#1093;%20&#1087;&#1080;&#1089;&#1072;&#1090;&#1077;&#1083;&#1103;&#1093;%20&#1076;&#1083;&#1103;%20&#1091;&#1088;&#1086;&#1082;&#1086;&#1074;%20&#1088;&#1091;&#1089;&#1089;&#1082;&#1086;&#1081;%20&#1083;&#1080;&#1090;&#1077;&#1088;&#1072;&#1090;&#1091;&#1088;&#1099;%20&#1080;%20&#1074;&#1085;&#1077;&#1082;&#1083;&#1072;&#1089;&#1089;&#1085;&#1099;&#1093;%20&#1084;&#1077;&#1088;&#1086;&#1087;&#1088;&#1080;&#1103;&#1090;&#1080;&#1081;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85680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Поэтическая летопись войны </a:t>
            </a:r>
            <a:br>
              <a:rPr sz="4100"/>
            </a:b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в балладе Твардовского «Рассказ танкиста»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22" name="Picture 2" descr="H:\копилка\ВОВ\106900392.jpg"/>
          <p:cNvPicPr/>
          <p:nvPr/>
        </p:nvPicPr>
        <p:blipFill>
          <a:blip r:embed="rId1"/>
          <a:stretch/>
        </p:blipFill>
        <p:spPr>
          <a:xfrm>
            <a:off x="6000840" y="3214800"/>
            <a:ext cx="2334960" cy="3073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Documents and Settings\HRO\Рабочий стол\Твардовский\портреты\jzl-058[1].jpg"/>
          <p:cNvPicPr/>
          <p:nvPr/>
        </p:nvPicPr>
        <p:blipFill>
          <a:blip r:embed="rId2"/>
          <a:stretch/>
        </p:blipFill>
        <p:spPr>
          <a:xfrm>
            <a:off x="1143000" y="3214800"/>
            <a:ext cx="1905120" cy="28573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6"/>
          <p:cNvSpPr/>
          <p:nvPr/>
        </p:nvSpPr>
        <p:spPr>
          <a:xfrm>
            <a:off x="3059280" y="37148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c3e"/>
                </a:solidFill>
                <a:latin typeface="Verdana"/>
              </a:rPr>
              <a:t>Урок лит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c3e"/>
                </a:solidFill>
                <a:latin typeface="Verdana"/>
              </a:rPr>
              <a:t>в 5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c3e"/>
                </a:solidFill>
                <a:latin typeface="Verdana"/>
              </a:rPr>
              <a:t>Учитель: О.К</a:t>
            </a:r>
            <a:r>
              <a:rPr b="1" lang="ru-RU" sz="1800" spc="-1" strike="noStrike">
                <a:solidFill>
                  <a:srgbClr val="0e2c3e"/>
                </a:solidFill>
                <a:latin typeface="Arial"/>
              </a:rPr>
              <a:t>. Долг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2c3e"/>
                </a:solidFill>
                <a:latin typeface="Verdana"/>
              </a:rPr>
              <a:t>М</a:t>
            </a:r>
            <a:r>
              <a:rPr b="0" lang="ru-RU" sz="1800" spc="-1" strike="noStrike">
                <a:solidFill>
                  <a:srgbClr val="0e2c3e"/>
                </a:solidFill>
                <a:latin typeface="Arial"/>
              </a:rPr>
              <a:t>Б</a:t>
            </a:r>
            <a:r>
              <a:rPr b="0" lang="ru-RU" sz="1800" spc="-1" strike="noStrike">
                <a:solidFill>
                  <a:srgbClr val="0e2c3e"/>
                </a:solidFill>
                <a:latin typeface="Verdana"/>
              </a:rPr>
              <a:t>ОУ СОШ №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2c3e"/>
                </a:solidFill>
                <a:latin typeface="Arial"/>
              </a:rPr>
              <a:t>Ст. Павл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6" descr="сканирование0004.jpg"/>
          <p:cNvPicPr/>
          <p:nvPr/>
        </p:nvPicPr>
        <p:blipFill>
          <a:blip r:embed="rId1"/>
          <a:stretch/>
        </p:blipFill>
        <p:spPr>
          <a:xfrm>
            <a:off x="571680" y="1143000"/>
            <a:ext cx="3887640" cy="44784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7"/>
          <p:cNvSpPr/>
          <p:nvPr/>
        </p:nvSpPr>
        <p:spPr>
          <a:xfrm>
            <a:off x="4857840" y="642960"/>
            <a:ext cx="3929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4425d"/>
                </a:solidFill>
                <a:latin typeface="Verdana"/>
              </a:rPr>
              <a:t>АЛЕКСАНДР ТРИФОНОВИЧ ТВАРДОВ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425d"/>
                </a:solidFill>
                <a:latin typeface="Verdana"/>
              </a:rPr>
              <a:t>(1910 – 197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Горизонтальный свиток 8"/>
          <p:cNvSpPr/>
          <p:nvPr/>
        </p:nvSpPr>
        <p:spPr>
          <a:xfrm>
            <a:off x="4286160" y="3143160"/>
            <a:ext cx="4429080" cy="3214800"/>
          </a:xfrm>
          <a:prstGeom prst="horizontalScroll">
            <a:avLst>
              <a:gd name="adj" fmla="val 12500"/>
            </a:avLst>
          </a:prstGeom>
          <a:solidFill>
            <a:srgbClr val="cccccc"/>
          </a:solidFill>
          <a:ln w="42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4714920" y="3500280"/>
            <a:ext cx="4000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«Хорошо помню, что первое моё стихотворение, обличающее моих сверстников, разорителей птичьих гнёзд, я пытался записать, ещё не зная всех букв алфавита и, конечно, не имея понятия о стихосложении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H:\МОУ СОШ № 3\сканирование00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00840" y="3071880"/>
            <a:ext cx="2322360" cy="30081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2"/>
          <p:cNvSpPr/>
          <p:nvPr/>
        </p:nvSpPr>
        <p:spPr>
          <a:xfrm>
            <a:off x="5500800" y="614376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ать поэ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1143000" y="714240"/>
            <a:ext cx="685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раз матери прошёл через всё творчество поэта, начиная с ранних стих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цу, с которым Твардовский порой в своей юности воевал, воздано должное в поэме «По праву памят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00040" y="3929040"/>
            <a:ext cx="5143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« Целые зимние вечера у нас часто отдавались чтению вслух какой либо книге,» - вспоминал в автобиографии Твардов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ый прямоугольник 1"/>
          <p:cNvSpPr/>
          <p:nvPr/>
        </p:nvSpPr>
        <p:spPr>
          <a:xfrm>
            <a:off x="6000840" y="6513480"/>
            <a:ext cx="2387520" cy="34452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6012000" y="652140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Фотография является гиперссылко для перехода на сайт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://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ideouroki/net\\look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iski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H:\МОУ СОШ № 3\твардовски й\сканирование0010.jpg"/>
          <p:cNvPicPr/>
          <p:nvPr/>
        </p:nvPicPr>
        <p:blipFill>
          <a:blip r:embed="rId1"/>
          <a:stretch/>
        </p:blipFill>
        <p:spPr>
          <a:xfrm>
            <a:off x="5429160" y="1928880"/>
            <a:ext cx="2772000" cy="33130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2"/>
          <p:cNvSpPr/>
          <p:nvPr/>
        </p:nvSpPr>
        <p:spPr>
          <a:xfrm>
            <a:off x="1500120" y="85716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425d"/>
                </a:solidFill>
                <a:latin typeface="Verdana"/>
              </a:rPr>
              <a:t>Баллада «Рассказ танкис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H:\копилка\ВОВ\f_9835162.jpg"/>
          <p:cNvPicPr/>
          <p:nvPr/>
        </p:nvPicPr>
        <p:blipFill>
          <a:blip r:embed="rId2"/>
          <a:stretch/>
        </p:blipFill>
        <p:spPr>
          <a:xfrm>
            <a:off x="1214280" y="3357720"/>
            <a:ext cx="3678480" cy="2307960"/>
          </a:xfrm>
          <a:prstGeom prst="rect">
            <a:avLst/>
          </a:prstGeom>
          <a:ln w="0">
            <a:noFill/>
          </a:ln>
        </p:spPr>
      </p:pic>
      <p:pic>
        <p:nvPicPr>
          <p:cNvPr id="238" name="02 - А. Т. Твардовский. _Рассказ танкиста_.mp3" descr=""/>
          <p:cNvPicPr/>
          <p:nvPr/>
        </p:nvPicPr>
        <p:blipFill>
          <a:blip r:embed="rId3"/>
          <a:stretch/>
        </p:blipFill>
        <p:spPr>
          <a:xfrm>
            <a:off x="7769160" y="565776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1594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H:\МОУ СОШ № 3\твардовски й\сканирование0014.jpg"/>
          <p:cNvPicPr/>
          <p:nvPr/>
        </p:nvPicPr>
        <p:blipFill>
          <a:blip r:embed="rId2"/>
          <a:stretch/>
        </p:blipFill>
        <p:spPr>
          <a:xfrm>
            <a:off x="642960" y="1571760"/>
            <a:ext cx="3621240" cy="4552920"/>
          </a:xfrm>
          <a:prstGeom prst="rect">
            <a:avLst/>
          </a:prstGeom>
          <a:ln w="0">
            <a:noFill/>
          </a:ln>
        </p:spPr>
      </p:pic>
      <p:sp>
        <p:nvSpPr>
          <p:cNvPr id="240" name="TextBox 5"/>
          <p:cNvSpPr/>
          <p:nvPr/>
        </p:nvSpPr>
        <p:spPr>
          <a:xfrm>
            <a:off x="1143000" y="571680"/>
            <a:ext cx="65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МАЛЬЧИШКИ ОГНЕННЫХ СОРОКОВ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H:\МОУ СОШ № 3\твардовски й\сканирование0015.jpg"/>
          <p:cNvPicPr/>
          <p:nvPr/>
        </p:nvPicPr>
        <p:blipFill>
          <a:blip r:embed="rId3"/>
          <a:stretch/>
        </p:blipFill>
        <p:spPr>
          <a:xfrm>
            <a:off x="4572000" y="1643040"/>
            <a:ext cx="3786120" cy="45957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7"/>
          <p:cNvSpPr/>
          <p:nvPr/>
        </p:nvSpPr>
        <p:spPr>
          <a:xfrm>
            <a:off x="785880" y="585792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ёня Гол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8"/>
          <p:cNvSpPr/>
          <p:nvPr/>
        </p:nvSpPr>
        <p:spPr>
          <a:xfrm>
            <a:off x="6000840" y="600084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арат Ка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H:\МОУ СОШ № 3\твардовски й\сканирование0016.jpg"/>
          <p:cNvPicPr/>
          <p:nvPr/>
        </p:nvPicPr>
        <p:blipFill>
          <a:blip r:embed="rId1"/>
          <a:stretch/>
        </p:blipFill>
        <p:spPr>
          <a:xfrm>
            <a:off x="642960" y="617400"/>
            <a:ext cx="2857320" cy="33530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H:\МОУ СОШ № 3\твардовски й\сканирование0017.jpg"/>
          <p:cNvPicPr/>
          <p:nvPr/>
        </p:nvPicPr>
        <p:blipFill>
          <a:blip r:embed="rId2"/>
          <a:stretch/>
        </p:blipFill>
        <p:spPr>
          <a:xfrm>
            <a:off x="5286240" y="642960"/>
            <a:ext cx="2857680" cy="33624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H:\МОУ СОШ № 3\твардовски й\сканирование0018.jpg"/>
          <p:cNvPicPr/>
          <p:nvPr/>
        </p:nvPicPr>
        <p:blipFill>
          <a:blip r:embed="rId3"/>
          <a:stretch/>
        </p:blipFill>
        <p:spPr>
          <a:xfrm>
            <a:off x="3357720" y="3786120"/>
            <a:ext cx="2385720" cy="2889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10"/>
          <p:cNvSpPr/>
          <p:nvPr/>
        </p:nvSpPr>
        <p:spPr>
          <a:xfrm>
            <a:off x="642960" y="40006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ина Порт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1"/>
          <p:cNvSpPr/>
          <p:nvPr/>
        </p:nvSpPr>
        <p:spPr>
          <a:xfrm>
            <a:off x="6143760" y="42876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тя Черевич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2"/>
          <p:cNvSpPr/>
          <p:nvPr/>
        </p:nvSpPr>
        <p:spPr>
          <a:xfrm>
            <a:off x="5643720" y="600084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тя Новиц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 Валерьевна</cp:lastModifiedBy>
  <dcterms:modified xsi:type="dcterms:W3CDTF">2015-04-02T12:43:37Z</dcterms:modified>
  <cp:revision>22</cp:revision>
  <dc:subject/>
  <dc:title>Твардовский  Александр Трифонович  </dc:title>
</cp:coreProperties>
</file>